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860D-FC21-48C9-B45A-E310FBB5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E4B2-6E3C-4C52-9CD5-0CE3AB61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8C96-3FBE-4958-BDDD-6F4EB2E9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8806-09DA-49E3-952C-AC561B60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1E1A-601D-4F89-B760-737EFBBA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7F4D-C902-4F95-B3AE-FA737CA7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97D0-491E-4BF5-9A8B-9EFF1C6E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E7D2-3117-4D2E-8DF2-BA0DF43D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B4A3-B8D4-493D-AEB4-EFC49A7C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E924-215C-48FB-B3D8-349973CF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3863-2583-4410-8F6E-D042AFAD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799D-1523-457C-BABE-C5F3EDCA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B9D3-23CD-42FF-B28D-926F3D01DDC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CuadroTexto"/>
          <p:cNvSpPr/>
          <p:nvPr/>
        </p:nvSpPr>
        <p:spPr>
          <a:xfrm>
            <a:off x="928800" y="18900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ACULTAD DE CIE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NIVERSIDAD AUTÓNOMA DE MADR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4 CuadroTexto"/>
          <p:cNvSpPr/>
          <p:nvPr/>
        </p:nvSpPr>
        <p:spPr>
          <a:xfrm>
            <a:off x="714240" y="2214720"/>
            <a:ext cx="764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PLAN DE ACCIÓN TUTORIAL (PAT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URSO DE FORMACIÓN DE TUT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5 CuadroTexto"/>
          <p:cNvSpPr/>
          <p:nvPr/>
        </p:nvSpPr>
        <p:spPr>
          <a:xfrm>
            <a:off x="1071720" y="535788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13 de julio de 20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4 CuadroTexto"/>
          <p:cNvSpPr/>
          <p:nvPr/>
        </p:nvSpPr>
        <p:spPr>
          <a:xfrm>
            <a:off x="785880" y="887400"/>
            <a:ext cx="7643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PROGRA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10:30 h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Present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10:45 h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Prof. Benito del Rinc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12:20 h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Descanso. Café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12:40 h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Prof. Benito del Rinc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14:30 h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lausu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4 CuadroTexto"/>
          <p:cNvSpPr/>
          <p:nvPr/>
        </p:nvSpPr>
        <p:spPr>
          <a:xfrm>
            <a:off x="285840" y="142920"/>
            <a:ext cx="864396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LAN DE ACCIÓN TUTORIAL DE LA FACULTAD DE CIENC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OBJETIV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acilitar la integración académica de los estudi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Orientar a los estudiantes en la disponibilidad y uso de los recursos para el aprendiz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Ofrecer apoyo académico a los estudiantes para configurar su proyecto académico y profes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Orientar a los estudiantes sobre opciones de inserción laboral y formación continu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Detección de problemas de funcionamiento y solu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4 CuadroTexto"/>
          <p:cNvSpPr/>
          <p:nvPr/>
        </p:nvSpPr>
        <p:spPr>
          <a:xfrm>
            <a:off x="285840" y="142920"/>
            <a:ext cx="8643960" cy="60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LAN DE ACCIÓN TUTORIAL DE LA FACULTAD DE CIENC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GENTES IMPLICAD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Universidad: vicerrectorados, Oficina de Orientación y Atención al Estudiante de la Universidad, COIE, Servicio de Bibliotecas,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acultad de Ciencias: vicedecanatos (Oficina de Prácticas Externas, Oficina de Relaciones Internacionales, servicios de información, etc.) y coordinadores de titu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Profesores tut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4 CuadroTexto"/>
          <p:cNvSpPr/>
          <p:nvPr/>
        </p:nvSpPr>
        <p:spPr>
          <a:xfrm>
            <a:off x="285840" y="142920"/>
            <a:ext cx="8643960" cy="64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LAN DE ACCIÓN TUTORIAL DE LA FACULTAD DE CIENC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TAPAS y ACCION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cogi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Jornada de acog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Primera entrevista con el tu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eguimi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Reuniones de seguimiento programadas con el tu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Reuniones solicitadas por estudiantes o tu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esiones de información: movilidad, itinerarios académicos, trabaj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fin de grado, prácticas externas, orientación profes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ulminación de estudios e inserción lab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esiones de información: movilidad, trabajos fin de grado, práctica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xternas, orientación profesional, continuación de estud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4 CuadroTexto"/>
          <p:cNvSpPr/>
          <p:nvPr/>
        </p:nvSpPr>
        <p:spPr>
          <a:xfrm>
            <a:off x="285840" y="142920"/>
            <a:ext cx="8643960" cy="46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LAN DE ACCIÓN TUTORIAL DE LA FACULTAD DE CIENC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EGUIMIENTO ESTUDIAN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ichas de recogida de datos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(a cumplimentar por el estudiante)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Ficha ini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Ficha principio segundo se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Ficha final de cur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Fichas de seguimiento de estudiantes </a:t>
            </a: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(formato en elaboració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4 CuadroTexto"/>
          <p:cNvSpPr/>
          <p:nvPr/>
        </p:nvSpPr>
        <p:spPr>
          <a:xfrm>
            <a:off x="285840" y="142920"/>
            <a:ext cx="8643960" cy="54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LAN DE ACCIÓN TUTORIAL DE LA FACULTAD DE CIENC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EGUIMIENTO DEL P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Basado en la experiencia e información recogida por los tut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e nombrará un coordinador de PAT por titu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Detección de puntos débiles del PAT y de la titu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laboración de propuestas de mej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laboración de documento de “preguntas más frecuente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0:41:40Z</dcterms:created>
  <dc:creator>MAGR</dc:creator>
  <dc:description/>
  <dc:language>en-US</dc:language>
  <cp:lastModifiedBy>MAGR</cp:lastModifiedBy>
  <dcterms:modified xsi:type="dcterms:W3CDTF">2009-07-10T07:48:43Z</dcterms:modified>
  <cp:revision>6</cp:revision>
  <dc:subject/>
  <dc:title>Diapositiva 1</dc:title>
</cp:coreProperties>
</file>