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670-886D-41F4-B4E1-627FDC7A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552-7894-4BC5-BD47-2C1DD012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09E-1C42-4562-89A9-B4E684C4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474-B1F7-46C7-A088-C76D2583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F3B-48FC-45A2-A82A-321E9FAC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CD0-EC23-4653-97FB-DA637112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F58-F862-4EE6-A2CC-EFF92A01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E24-CAFA-4BE5-9D9E-A4A4854C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552-1F3B-4DC3-9ACB-DD763DDD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372-9ACD-49FC-AE18-DAC9090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B2F-D5AD-40C2-A172-805E9F32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DF3-FC02-4577-B9FB-98273E84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C89-08E0-4922-BE98-6321359DD2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4582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6666"/>
                </a:solidFill>
                <a:latin typeface="Arial Narrow"/>
              </a:rPr>
              <a:t>ENTREVISTA O DIÁLOGO EN TUTORÍ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800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 Narrow"/>
              </a:rPr>
              <a:t>Benito Del Rincón Ig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 Narrow"/>
              </a:rPr>
              <a:t>Universidad de Castilla la M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 Narrow"/>
              </a:rPr>
              <a:t>benito.rincon@uclm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33520" y="380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9966"/>
                </a:solidFill>
                <a:latin typeface="Arial"/>
              </a:rPr>
              <a:t>DESPUÉS DE LA ENTREVISTA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57200" y="1295280"/>
            <a:ext cx="86868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uenta con más 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Puede contemplar más posibi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e conoce mejor a sí m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Se siente más valor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Ha mejorado la percepción de sí m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Está más dispuesto a actuar según lo decid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3520" y="380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9966"/>
                </a:solidFill>
                <a:latin typeface="Arial"/>
              </a:rPr>
              <a:t>DESPUÉS DE LA ENTREVISTA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1295280"/>
            <a:ext cx="8218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ás involucrado en su propia construcción personal, académica, profesio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Más capaz de generar sus propias soluciones, más autóno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11280" y="544500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333300"/>
                </a:solidFill>
                <a:latin typeface="Arial"/>
              </a:rPr>
              <a:t>tu llevas el coche; eres capaz de conducir. ¿Sabes a donde va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26"/>
          <p:cNvSpPr txBox="1"/>
          <p:nvPr/>
        </p:nvSpPr>
        <p:spPr>
          <a:xfrm>
            <a:off x="2209680" y="609480"/>
            <a:ext cx="4724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"Investigar" en tutoría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Text Box 1027"/>
          <p:cNvSpPr/>
          <p:nvPr/>
        </p:nvSpPr>
        <p:spPr>
          <a:xfrm>
            <a:off x="609480" y="2743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9900"/>
                </a:solidFill>
                <a:latin typeface="Arial Narrow"/>
              </a:rPr>
              <a:t>ALUM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28"/>
          <p:cNvSpPr/>
          <p:nvPr/>
        </p:nvSpPr>
        <p:spPr>
          <a:xfrm>
            <a:off x="533520" y="4952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9900"/>
                </a:solidFill>
                <a:latin typeface="Arial Narrow"/>
              </a:rPr>
              <a:t>TU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029"/>
          <p:cNvSpPr/>
          <p:nvPr/>
        </p:nvSpPr>
        <p:spPr>
          <a:xfrm>
            <a:off x="2209680" y="3809880"/>
            <a:ext cx="6096240" cy="838440"/>
          </a:xfrm>
          <a:prstGeom prst="pie">
            <a:avLst/>
          </a:prstGeom>
          <a:gradFill rotWithShape="0">
            <a:gsLst>
              <a:gs pos="0">
                <a:srgbClr val="339933"/>
              </a:gs>
              <a:gs pos="50000">
                <a:srgbClr val="80bf80"/>
              </a:gs>
              <a:gs pos="100000">
                <a:srgbClr val="33993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30"/>
          <p:cNvSpPr/>
          <p:nvPr/>
        </p:nvSpPr>
        <p:spPr>
          <a:xfrm>
            <a:off x="2209680" y="1447920"/>
            <a:ext cx="3429000" cy="1295280"/>
          </a:xfrm>
          <a:prstGeom prst="wedgeRectCallout">
            <a:avLst>
              <a:gd name="adj1" fmla="val -66898"/>
              <a:gd name="adj2" fmla="val 54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31"/>
          <p:cNvSpPr/>
          <p:nvPr/>
        </p:nvSpPr>
        <p:spPr>
          <a:xfrm>
            <a:off x="2362320" y="1600200"/>
            <a:ext cx="388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00"/>
                </a:solidFill>
                <a:latin typeface="Arial"/>
              </a:rPr>
              <a:t>Tema, problema </a:t>
            </a:r>
            <a:r>
              <a:rPr b="0" lang="es-ES_tradnl" sz="2000" spc="-1" strike="noStrike">
                <a:solidFill>
                  <a:srgbClr val="669900"/>
                </a:solidFill>
                <a:latin typeface="Arial"/>
              </a:rPr>
              <a:t>(autoconocimiento, salidas profesion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32"/>
          <p:cNvSpPr/>
          <p:nvPr/>
        </p:nvSpPr>
        <p:spPr>
          <a:xfrm>
            <a:off x="1219320" y="3505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3"/>
          <p:cNvSpPr/>
          <p:nvPr/>
        </p:nvSpPr>
        <p:spPr>
          <a:xfrm>
            <a:off x="2438280" y="32767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00"/>
                </a:solidFill>
                <a:latin typeface="Simpson"/>
              </a:rPr>
              <a:t>Construcción propio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34"/>
          <p:cNvSpPr/>
          <p:nvPr/>
        </p:nvSpPr>
        <p:spPr>
          <a:xfrm>
            <a:off x="2057400" y="4495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9900"/>
                </a:solidFill>
                <a:latin typeface="Simpson"/>
              </a:rPr>
              <a:t>Apoyo del tu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9640" y="404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ENTREVISTA GRUPAL: PRIMER ENCU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1916280"/>
            <a:ext cx="89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vocatoria en tablón o pers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cc33"/>
                </a:solidFill>
                <a:latin typeface="Arial"/>
              </a:rPr>
              <a:t>Cuidar el espacio: acogedor, ord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Facilitar conocimiento mutuo: presentaciones, cruc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66"/>
                </a:solidFill>
                <a:latin typeface="Arial"/>
              </a:rPr>
              <a:t>Rellenar cuestionario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Arial"/>
              </a:rPr>
              <a:t>Los fines y los temas de la tutoría (carpeta tutor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3520" y="380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ENTREVISTA GRUPAL: TEMAS COM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79280" y="1916280"/>
            <a:ext cx="896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 de estudios: asignaturas, itiner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9900"/>
                </a:solidFill>
                <a:latin typeface="Arial"/>
              </a:rPr>
              <a:t>Movilidad, prác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del tiempo, método de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9900"/>
                </a:solidFill>
                <a:latin typeface="Arial"/>
              </a:rPr>
              <a:t>Dificultades surgidas en el desarrollo del 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Arial"/>
              </a:rPr>
              <a:t>Formación complement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9900"/>
                </a:solidFill>
                <a:latin typeface="Arial"/>
              </a:rPr>
              <a:t>Inserción lab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335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CONVOC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806436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GRAMA DE TUTORÍA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VOCATORIA DE REUN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ÍA:                        HORA:                  LUG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EMAS A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icio de curso y nove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das sobre plan de estudios y normativa. Sentido y valor de las asignatu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ificación de la tuto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ha del cuatrimestre: método de estudio, evaluación, organización del tiempo, dificultades surg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 temas a propuesta del gru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9966"/>
                </a:solidFill>
                <a:latin typeface="Arial"/>
              </a:rPr>
              <a:t>FASES PARA EL DIÁLOGO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79280" y="1125360"/>
            <a:ext cx="8964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ICIAL: clima, seguridad, confianza, infor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8080"/>
                </a:solidFill>
                <a:latin typeface="Arial"/>
              </a:rPr>
              <a:t>NÚCLEO: concreciones, exposición del alumno, escucha acti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Arial"/>
              </a:rPr>
              <a:t>SOLUCIONES, LÍNEAS DE ACCIÓN: propuestas y contraste; ventajas, incon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8080"/>
                </a:solidFill>
                <a:latin typeface="Arial"/>
              </a:rPr>
              <a:t>CONCLUSIONES: síntesis, la propuesta, nueva entrevi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39640" y="189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9966"/>
                </a:solidFill>
                <a:latin typeface="Arial"/>
              </a:rPr>
              <a:t>ACTITUDES Y RESPUESTAS DEL TUTOR  O  TUT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9280" y="1413000"/>
            <a:ext cx="8964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nquilizar: “no te precipites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Comprender: atiende sentimientos, ayuda a expresarse, a ava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Arial"/>
              </a:rPr>
              <a:t>Interpretar: las causas, parafrasear,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cc66"/>
                </a:solidFill>
                <a:latin typeface="Arial"/>
              </a:rPr>
              <a:t>Explorar: averiguar, profundizar un asp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c1c1c"/>
                </a:solidFill>
                <a:latin typeface="Arial"/>
              </a:rPr>
              <a:t>Valorar: juicios, camino a seguir (al fin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189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9966"/>
                </a:solidFill>
                <a:latin typeface="Arial"/>
              </a:rPr>
              <a:t>PREGUNTAS ABIER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9280" y="1413000"/>
            <a:ext cx="8964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posibilidades v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9966"/>
                </a:solidFill>
                <a:latin typeface="Arial"/>
              </a:rPr>
              <a:t>¿Cuál ves más interesante / más fácil / más costosa / más adecuada para t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33"/>
                </a:solidFill>
                <a:latin typeface="Arial"/>
              </a:rPr>
              <a:t>¿Qué experiencia te puede ayudar aho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cc66"/>
                </a:solidFill>
                <a:latin typeface="Arial"/>
              </a:rPr>
              <a:t>¿Qué implicaciones, condiciones,… tendría esa ví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228600"/>
            <a:ext cx="1752480" cy="1068840"/>
          </a:xfrm>
          <a:prstGeom prst="rect">
            <a:avLst/>
          </a:prstGeom>
          <a:gradFill rotWithShape="0">
            <a:gsLst>
              <a:gs pos="0">
                <a:srgbClr val="e6ffe6"/>
              </a:gs>
              <a:gs pos="50000">
                <a:srgbClr val="ccffcc"/>
              </a:gs>
              <a:gs pos="100000">
                <a:srgbClr val="e6ffe6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3300"/>
                </a:solidFill>
                <a:latin typeface="Arial Narrow"/>
              </a:rPr>
              <a:t>Alumno</a:t>
            </a:r>
            <a:r>
              <a:rPr b="0" lang="es-ES_tradnl" sz="3200" spc="-1" strike="noStrike">
                <a:solidFill>
                  <a:srgbClr val="003300"/>
                </a:solidFill>
                <a:latin typeface="Arial Narrow"/>
              </a:rPr>
              <a:t> exp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0" y="1143000"/>
            <a:ext cx="3124080" cy="1556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e9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3300"/>
                </a:solidFill>
                <a:latin typeface="Arial Narrow"/>
              </a:rPr>
              <a:t>Tutor</a:t>
            </a:r>
            <a:r>
              <a:rPr b="0" lang="es-ES_tradnl" sz="3200" spc="-1" strike="noStrike">
                <a:solidFill>
                  <a:srgbClr val="663300"/>
                </a:solidFill>
                <a:latin typeface="Arial Narrow"/>
              </a:rPr>
              <a:t>: comprende, ayuda a interpretar, expl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248520" y="1219320"/>
            <a:ext cx="2590560" cy="1068840"/>
          </a:xfrm>
          <a:prstGeom prst="rect">
            <a:avLst/>
          </a:prstGeom>
          <a:gradFill rotWithShape="0">
            <a:gsLst>
              <a:gs pos="0">
                <a:srgbClr val="e9ffe9"/>
              </a:gs>
              <a:gs pos="50000">
                <a:srgbClr val="ccffcc"/>
              </a:gs>
              <a:gs pos="100000">
                <a:srgbClr val="e9ffe9"/>
              </a:gs>
            </a:gsLst>
            <a:lin ang="189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3300"/>
                </a:solidFill>
                <a:latin typeface="Arial Narrow"/>
              </a:rPr>
              <a:t>Alumno</a:t>
            </a:r>
            <a:r>
              <a:rPr b="0" lang="es-ES_tradnl" sz="3200" spc="-1" strike="noStrike">
                <a:solidFill>
                  <a:srgbClr val="003300"/>
                </a:solidFill>
                <a:latin typeface="Arial Narrow"/>
              </a:rPr>
              <a:t> amplía com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486400" y="3048120"/>
            <a:ext cx="3276720" cy="204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3300"/>
                </a:solidFill>
                <a:latin typeface="Arial Narrow"/>
              </a:rPr>
              <a:t>Tutor:</a:t>
            </a:r>
            <a:r>
              <a:rPr b="0" lang="es-ES_tradnl" sz="3200" spc="-1" strike="noStrike">
                <a:solidFill>
                  <a:srgbClr val="663300"/>
                </a:solidFill>
                <a:latin typeface="Arial Narrow"/>
              </a:rPr>
              <a:t> demanda qué acciones previas, alternativas, ventajas e incon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486400"/>
            <a:ext cx="2209680" cy="1068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Arial Narrow"/>
              </a:rPr>
              <a:t>Acción, 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886200" y="5562720"/>
            <a:ext cx="2286000" cy="1068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Arial Narrow"/>
              </a:rPr>
              <a:t>Valoraciones Consen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62120" y="3429000"/>
            <a:ext cx="1904760" cy="1068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4f4ca"/>
              </a:gs>
              <a:gs pos="100000">
                <a:srgbClr val="cccc00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Arial Narrow"/>
              </a:rPr>
              <a:t>Nuevo encu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>
            <a:off x="990720" y="1295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990720" y="1905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410080" y="18288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7543800" y="2286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7391520" y="5105520"/>
            <a:ext cx="0" cy="9144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6171840" y="6019920"/>
            <a:ext cx="121932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5"/>
          <p:cNvSpPr/>
          <p:nvPr/>
        </p:nvSpPr>
        <p:spPr>
          <a:xfrm flipH="1">
            <a:off x="2742840" y="6019920"/>
            <a:ext cx="106668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6"/>
          <p:cNvSpPr/>
          <p:nvPr/>
        </p:nvSpPr>
        <p:spPr>
          <a:xfrm flipV="1">
            <a:off x="1600200" y="4495680"/>
            <a:ext cx="0" cy="9907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17"/>
          <p:cNvSpPr txBox="1"/>
          <p:nvPr/>
        </p:nvSpPr>
        <p:spPr>
          <a:xfrm>
            <a:off x="3809880" y="20520"/>
            <a:ext cx="43624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e47"/>
                    </a:gs>
                    <a:gs pos="50000">
                      <a:srgbClr val="00cc99"/>
                    </a:gs>
                    <a:gs pos="100000">
                      <a:srgbClr val="005e47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TREVISTA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e47"/>
                  </a:gs>
                  <a:gs pos="50000">
                    <a:srgbClr val="00cc99"/>
                  </a:gs>
                  <a:gs pos="100000">
                    <a:srgbClr val="005e47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66"/>
                </a:solidFill>
                <a:latin typeface="Simpson"/>
              </a:rPr>
              <a:t>ENTREVISTA     PAR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66"/>
              </a:buClr>
              <a:buFont typeface="Simps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66"/>
                </a:solidFill>
                <a:latin typeface="Simpson"/>
              </a:rPr>
              <a:t>RES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66"/>
                </a:solidFill>
                <a:latin typeface="Tahoma"/>
              </a:rPr>
              <a:t>Criterio de ut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66"/>
                </a:solidFill>
                <a:latin typeface="Tahoma"/>
              </a:rPr>
              <a:t>Eficacia del tu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66"/>
                </a:solidFill>
                <a:latin typeface="Tahoma"/>
              </a:rPr>
              <a:t>El profesor “debe sabe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962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Simps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Simpson"/>
              </a:rPr>
              <a:t>ESCU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ahoma"/>
              </a:rPr>
              <a:t>Ayudar a describir, interpre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ahoma"/>
              </a:rPr>
              <a:t>Peligros: clichés, valorar al princi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ahoma"/>
              </a:rPr>
              <a:t>Madurar ambos la solución o la vía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ahoma"/>
              </a:rPr>
              <a:t>Hacer pen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12:08:00Z</dcterms:created>
  <dc:creator>brincon</dc:creator>
  <dc:description/>
  <dc:language>en-US</dc:language>
  <cp:lastModifiedBy>MAGR</cp:lastModifiedBy>
  <dcterms:modified xsi:type="dcterms:W3CDTF">2009-07-09T14:12:41Z</dcterms:modified>
  <cp:revision>25</cp:revision>
  <dc:subject/>
  <dc:title>“ENTREVISTA Y PERFIL DEL TUTOR”</dc:title>
</cp:coreProperties>
</file>