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04D-F98E-487D-A70C-8065CB65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827-9F0B-4BDC-9B4D-F2D1DDEF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54D-533E-4F02-81AD-562ED606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40D-FF09-444F-83F8-34B60FD5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BA4-BD53-461C-9899-975EE495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891-FD12-4F76-AC3D-5F6D8522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740-B882-4F59-A551-71606C08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ABF-A011-401B-8F79-B0477B61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8A2-5F2D-4C00-9FC9-774A517E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DBE-F831-4CC1-AE6C-B617120E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303-EAF0-4B5A-8DD2-C2B53EB9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F0E-3545-4035-93D6-7A9F8C27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3E83-F795-449E-AA79-AB8CCBAC0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852640"/>
            <a:ext cx="84582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ALGUNOS REFERENTE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800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Benito Del Rincón Ig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Universidad de Castilla la Man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197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 Narrow"/>
              </a:rPr>
              <a:t>Vicerrectorado de Docencia y Ordenación Acadé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 Narrow"/>
              </a:rPr>
              <a:t>Unidad de Innovación y Calidad Educativas (U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41440" y="1197000"/>
            <a:ext cx="82072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"/>
              </a:rPr>
              <a:t>Tutores recogen feed-back tit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Descubre problemas concretos: trato profesor-alumno, cumplimiento hor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"/>
              </a:rPr>
              <a:t>Promoción de actividades generales complementarias: cursos 0, talleres de h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Centro de la acción docente: el estudi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"/>
              </a:rPr>
              <a:t>Pretexto para la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0"/>
            <a:ext cx="86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LOS FRUTOS DE LA TUTORÍA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LOS FRUTOS DE LA TUTORÍA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197000"/>
            <a:ext cx="868680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000099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  <a:ea typeface="Arial"/>
              </a:rPr>
              <a:t>Importancia del estudiante       E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buClr>
                <a:srgbClr val="cc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Arial"/>
              </a:rPr>
              <a:t>Más seguridad en toma de decisio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buClr>
                <a:srgbClr val="000099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  <a:ea typeface="Arial"/>
              </a:rPr>
              <a:t>Matrículas más racion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cc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Arial"/>
              </a:rPr>
              <a:t>Seguimiento de ca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buClr>
                <a:srgbClr val="000099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  <a:ea typeface="Arial"/>
              </a:rPr>
              <a:t>Acceso a informacio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buClr>
                <a:srgbClr val="cc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Arial"/>
              </a:rPr>
              <a:t>Proyecto de equip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buClr>
                <a:srgbClr val="000099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  <a:ea typeface="Arial"/>
              </a:rPr>
              <a:t>Mejor relación entre profesores y alumn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buClr>
                <a:srgbClr val="cc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Arial"/>
              </a:rPr>
              <a:t>Satisfacción de los estudia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447920"/>
            <a:ext cx="5335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FORMACIÓN EXTRACURRICULAR QUE SE ALCA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281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Habilidades para dialogar y comunica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</a:rPr>
              <a:t>Capacidad para recibir orientación: nivel saludable de depen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Sentido crítico y autocrít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</a:rPr>
              <a:t>Colaboración y perspectiva de equ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Reflexión académica: conectar formación adquirida (la que tengo) y formación necesaria (la que me fal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99"/>
                </a:solidFill>
                <a:latin typeface="Staccato222 BT"/>
              </a:rPr>
              <a:t>CAUSAS  ALUMN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295280"/>
            <a:ext cx="89647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One Stroke Script LET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One Stroke Script LET"/>
              </a:rPr>
              <a:t>Los afectados, no están afectados” (desinter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cc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One Stroke Script LET"/>
              </a:rPr>
              <a:t>“</a:t>
            </a:r>
            <a:r>
              <a:rPr b="0" lang="en-US" sz="2800" spc="-1" strike="noStrike">
                <a:solidFill>
                  <a:srgbClr val="6600cc"/>
                </a:solidFill>
                <a:latin typeface="One Stroke Script LET"/>
              </a:rPr>
              <a:t>A mí lo que me interesa es aprobar” (productiv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One Stroke Script LET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One Stroke Script LET"/>
              </a:rPr>
              <a:t>Yo uso las tutorías, pero con mis compañer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cc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One Stroke Script LET"/>
              </a:rPr>
              <a:t>“</a:t>
            </a:r>
            <a:r>
              <a:rPr b="0" lang="en-US" sz="2800" spc="-1" strike="noStrike">
                <a:solidFill>
                  <a:srgbClr val="6600cc"/>
                </a:solidFill>
                <a:latin typeface="One Stroke Script LET"/>
              </a:rPr>
              <a:t>Por la mañana tenemos clases y por la tarde prácticas. No hay tiempo para tutoría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One Stroke Script LET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One Stroke Script LET"/>
              </a:rPr>
              <a:t>Basta que te pongan un cartel para reunión que dices: no puedo... o iré, pero no tengo nada qué decir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cc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One Stroke Script LET"/>
              </a:rPr>
              <a:t>Relación profesor- alumno (disposición camp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380880"/>
            <a:ext cx="72392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  <a:ea typeface="Arial"/>
              </a:rPr>
              <a:t>Escasa tradición tutorial académica y orienta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99"/>
                </a:solidFill>
                <a:latin typeface="Arial"/>
                <a:ea typeface="Arial"/>
              </a:rPr>
              <a:t>Apatía general, “si no sirve para aprobar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200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cc"/>
                </a:solidFill>
                <a:latin typeface="Arial"/>
                <a:ea typeface="Arial"/>
              </a:rPr>
              <a:t>Per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41911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0099"/>
                </a:solidFill>
                <a:latin typeface="Arial"/>
                <a:ea typeface="Arial"/>
              </a:rPr>
              <a:t>Necesidad de ori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0099"/>
                </a:solidFill>
                <a:latin typeface="Arial"/>
                <a:ea typeface="Arial"/>
              </a:rPr>
              <a:t>Opinión favorable a la tuto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260280"/>
            <a:ext cx="86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0000"/>
                </a:solidFill>
                <a:latin typeface="Arial"/>
                <a:ea typeface="Arial"/>
              </a:rPr>
              <a:t>PARA TOMAR CONCIENCI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1197000"/>
            <a:ext cx="7632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Arial"/>
                <a:ea typeface="Arial"/>
              </a:rPr>
              <a:t>Atención cualific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Arial"/>
                <a:ea typeface="Arial"/>
              </a:rPr>
              <a:t>Utilidad de los encuent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Arial"/>
                <a:ea typeface="Arial"/>
              </a:rPr>
              <a:t>Incluir información del servic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Arial"/>
                <a:ea typeface="Arial"/>
              </a:rPr>
              <a:t>en la Guía, </a:t>
            </a:r>
            <a:r>
              <a:rPr b="1" lang="es-MX" sz="3600" spc="-1" strike="noStrike">
                <a:solidFill>
                  <a:srgbClr val="000099"/>
                </a:solidFill>
                <a:latin typeface="Arial"/>
                <a:ea typeface="Arial"/>
              </a:rPr>
              <a:t>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Arial"/>
                <a:ea typeface="Arial"/>
              </a:rPr>
              <a:t>en la charla de acog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Arial"/>
                <a:ea typeface="Arial"/>
              </a:rPr>
              <a:t>Charla específica sobre tuto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Simpson"/>
              </a:rPr>
              <a:t>¿QUÉ PUEDE APORTAR LA TUTORÍ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341360"/>
            <a:ext cx="896472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oyar a los estudiantes de nueva ent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Enlace tutores – profeso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mover calidad tutoría de asignaturas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 más y mejor tutoría = más atención = más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Prevención del fracaso: </a:t>
            </a:r>
            <a:r>
              <a:rPr b="0" i="1" lang="es-ES" sz="2400" spc="-1" strike="noStrike">
                <a:solidFill>
                  <a:srgbClr val="cc0000"/>
                </a:solidFill>
                <a:latin typeface="Arial"/>
              </a:rPr>
              <a:t>¿qué hacer ante un alumno que fracasa continuam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iones coordinadas del profesorado como respuesta a necesidades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mplementar Programas de Trabajo (en competencias básicas, motivación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  <a:ea typeface="Arial"/>
              </a:rPr>
              <a:t>POSIBILIDADES PARA UNA CHARLA DE SENSIBILIZACIÓN Y CONOCIMIENTO TU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413000"/>
            <a:ext cx="83059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00"/>
                </a:solidFill>
                <a:latin typeface="Arial"/>
                <a:ea typeface="Arial"/>
              </a:rPr>
              <a:t>¿A QUÉ PUEDEN AYUDARNOS LOS TU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  <a:ea typeface="Arial"/>
              </a:rPr>
              <a:t>Matrícula, elecciones optativa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  <a:ea typeface="Arial"/>
              </a:rPr>
              <a:t>Las claves de la carrera, sus momentos cr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  <a:ea typeface="Arial"/>
              </a:rPr>
              <a:t>Ventajas e inconvenientes de la orientación entre ig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  <a:ea typeface="Arial"/>
              </a:rPr>
              <a:t>Relación mundo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  <a:ea typeface="Arial"/>
              </a:rPr>
              <a:t>Imprevistos que pueden interferir en lo acadé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  <a:ea typeface="Arial"/>
              </a:rPr>
              <a:t>Corrección de tópicos: ej. “derecho = memoriza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  <a:ea typeface="Arial"/>
              </a:rPr>
              <a:t>Medio de participar “feed-bac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  <a:ea typeface="Arial"/>
              </a:rPr>
              <a:t>No es fiscalizador, ayu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0000"/>
                </a:solidFill>
                <a:latin typeface="Arial"/>
                <a:ea typeface="Arial"/>
              </a:rPr>
              <a:t>IMPLICACIÓN DE LOS ESTUDIANTES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2349360"/>
            <a:ext cx="8305920" cy="11912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99"/>
                </a:solidFill>
                <a:latin typeface="Arial"/>
                <a:ea typeface="Arial"/>
              </a:rPr>
              <a:t>Facilita la creación de una auténtica “comunidad universitari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573360"/>
            <a:ext cx="0" cy="208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4221000"/>
            <a:ext cx="7189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005360"/>
            <a:ext cx="59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nformar: en acogida, imagen tutor en .ppt, espacio en web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661000"/>
            <a:ext cx="7189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724280"/>
            <a:ext cx="65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ropuestas desde Delegación de Alumnos: necesidades y dem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4941720"/>
            <a:ext cx="7189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5445000"/>
            <a:ext cx="63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articipar en organización de acogida, sensibilizar compañeros a tutorías, jor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0000"/>
                </a:solidFill>
                <a:latin typeface="Arial"/>
                <a:ea typeface="Arial"/>
              </a:rPr>
              <a:t>IMPLICACIÓN DE LOS ESTUDIANTES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2349360"/>
            <a:ext cx="8305920" cy="19036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99"/>
                </a:solidFill>
                <a:latin typeface="Arial"/>
                <a:ea typeface="Arial"/>
              </a:rPr>
              <a:t>Inclusión de un estudiante – tutor </a:t>
            </a:r>
            <a:r>
              <a:rPr b="0" i="1" lang="es-ES" sz="2800" spc="-1" strike="noStrike">
                <a:solidFill>
                  <a:srgbClr val="000099"/>
                </a:solidFill>
                <a:latin typeface="Arial"/>
                <a:ea typeface="Arial"/>
              </a:rPr>
              <a:t>(alumno de cursos superior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99"/>
                </a:solidFill>
                <a:latin typeface="Arial"/>
                <a:ea typeface="Arial"/>
              </a:rPr>
              <a:t>en cada grupo de tuto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4292640"/>
            <a:ext cx="0" cy="1873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4797360"/>
            <a:ext cx="7189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458136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Formar a los “mentore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6165720"/>
            <a:ext cx="7189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5157720"/>
            <a:ext cx="6588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5445000"/>
            <a:ext cx="7189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515772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limitar y coordinar acciones con los profesores- tu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59500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ompensación (créditos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333360"/>
            <a:ext cx="830592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acostumbrados a enseñar matrices... les tenemos que ayudar a no angustiarse..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...podéis venir si tenéis algún problema, pero, ir por ir, no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...excede nuestra capacidad como profesores; nos hemos guiado más por la pasión de hacerlo bien,..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45720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480"/>
            <a:ext cx="76201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...no, no me pasa nada, me va bien y ya está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el título de profesor te detiene..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Lo primero que te interesa es cómo sacar la carrera, y luego lo labora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Los míos tienen que rellenar una fich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En la primera reunión les di un documento explicándoles qué eran las 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En la segunda tratamos acerca de asignaturas, cuestiones académicas, cómo hacer un trabajo, búsqueda de biblio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En la tercera, cómo habían ido los exám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Además, van viniendo a propósito de las Becas; de qué organizaciones, asociaciones hay para trabajar, planes de estudios de otras diplomaturas,..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609480"/>
            <a:ext cx="80010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uando llegas, estás despistada,... te encuentras agobiada... y te va bien que alguien te cite, te ayude a organizarte..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Resultaba más difícil hablar con un profesor en el IES que aquí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Yo creo que es importante esta figura; a mi, los que me ayudaron a escoger carrera fueron los ordenanzas..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76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60093"/>
                </a:solidFill>
                <a:latin typeface="Simpson"/>
              </a:rPr>
              <a:t>DEBE RESPONDER A NECESIDAD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3213000"/>
            <a:ext cx="8280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Por ejemp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Falta de asistencia a cl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3399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Abandono en determinados momentos de la carr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Simpson"/>
              </a:rPr>
              <a:t>¿CON QUE HERRAMIENT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321300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341360"/>
            <a:ext cx="864216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Reuniones </a:t>
            </a:r>
            <a:r>
              <a:rPr b="0" lang="es-ES" sz="3200" spc="-1" strike="noStrike" u="sng">
                <a:solidFill>
                  <a:srgbClr val="cc0000"/>
                </a:solidFill>
                <a:uFillTx/>
                <a:latin typeface="Arial"/>
              </a:rPr>
              <a:t>individuales</a:t>
            </a: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 y entrevistas (revisión de las mis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uniones colaborativas o e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equeño grup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detección de problemas de aprendizaje y sus cau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cc0000"/>
                </a:solidFill>
                <a:uFillTx/>
                <a:latin typeface="Arial"/>
              </a:rPr>
              <a:t>Cuaderno de campo</a:t>
            </a: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 del profesor donde a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c3300"/>
                </a:solidFill>
                <a:latin typeface="Arial"/>
              </a:rPr>
              <a:t>los problemas de los alumnos como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c3300"/>
                </a:solidFill>
                <a:latin typeface="Arial"/>
              </a:rPr>
              <a:t>los datos e informaciones de cada estudi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Narrow"/>
              </a:rPr>
              <a:t>OPTIMIZADORES DE LA TUTORÍA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Narrow"/>
              </a:rPr>
              <a:t>Buena difusión convocato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 Narrow"/>
              </a:rPr>
              <a:t>Oportunidad encuent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Narrow"/>
              </a:rPr>
              <a:t>Integración con doce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 Narrow"/>
              </a:rPr>
              <a:t>Tutor acce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Narrow"/>
              </a:rPr>
              <a:t>Competencia del tu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 Narrow"/>
              </a:rPr>
              <a:t>Concepción T.P. proa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Narrow"/>
              </a:rPr>
              <a:t>Falta responsabilidad // </a:t>
            </a:r>
            <a:r>
              <a:rPr b="1" i="1" lang="es-ES_tradnl" sz="3200" spc="-1" strike="noStrike">
                <a:solidFill>
                  <a:srgbClr val="cc3300"/>
                </a:solidFill>
                <a:latin typeface="Arial Narrow"/>
              </a:rPr>
              <a:t>T. formales, t. re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99"/>
                </a:solidFill>
                <a:latin typeface="Arial Narrow"/>
              </a:rPr>
              <a:t>Otras vías espontá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773360"/>
            <a:ext cx="7488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</a:rPr>
              <a:t>Integración en programa formativo y con otras tutor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Narrow"/>
              </a:rPr>
              <a:t>Tutoría entre ig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</a:rPr>
              <a:t>Tutoría no presen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Narrow"/>
              </a:rPr>
              <a:t>Formación de tut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</a:rPr>
              <a:t>Reflexión y mejora sobre la prác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60280"/>
            <a:ext cx="82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Narrow"/>
              </a:rPr>
              <a:t>OPTIMIZADORES DE LA TUTORÍA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5157720"/>
            <a:ext cx="32403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17080" y="5157720"/>
            <a:ext cx="0" cy="863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524360" y="6021360"/>
            <a:ext cx="7923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6:28:16Z</dcterms:created>
  <dc:creator>Benet Del Rincón</dc:creator>
  <dc:description/>
  <dc:language>en-US</dc:language>
  <cp:lastModifiedBy>Benito.Rincon</cp:lastModifiedBy>
  <dcterms:modified xsi:type="dcterms:W3CDTF">2009-09-03T10:51:33Z</dcterms:modified>
  <cp:revision>88</cp:revision>
  <dc:subject/>
  <dc:title>Sin título de diapositiva</dc:title>
</cp:coreProperties>
</file>