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77FE-11D7-47F3-9E06-96AA94781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2188-6E64-4C5C-A3B7-7B036F05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3E84-01BA-40A9-823E-1C0BB7259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81A8-4016-4E39-B8FD-4C7EF1D45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5FB7-6110-4597-B231-00247D70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D1AF-7B04-407E-B510-629B8CB7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7480-3A66-4399-BBFB-729652E0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4109-62D4-4CA6-8358-7BEA01D9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9D32-4B38-44D3-97DF-8466C458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714B-77AA-4D43-9CB3-BA7132FA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0E6D-73C2-43EC-BE21-AEF7F3F9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BE1F-C96C-4BA2-9897-A8F970C9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25FE-3594-40B7-84B9-42DD82B61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1197000"/>
            <a:ext cx="84582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6666"/>
                </a:solidFill>
                <a:latin typeface="Arial Narrow"/>
              </a:rPr>
              <a:t>ENTREVISTA O DIÁLOGO EN TUTORÍA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76520" y="48006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66"/>
                </a:solidFill>
                <a:latin typeface="Arial Narrow"/>
              </a:rPr>
              <a:t>Benito Del Rincón Ig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66"/>
                </a:solidFill>
                <a:latin typeface="Arial Narrow"/>
              </a:rPr>
              <a:t>Universidad de Castilla la Man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66"/>
                </a:solidFill>
                <a:latin typeface="Arial Narrow"/>
              </a:rPr>
              <a:t>benito.rincon@uclm.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3520" y="38088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9966"/>
                </a:solidFill>
                <a:latin typeface="Arial"/>
              </a:rPr>
              <a:t>DESPUÉS DE LA ENTREVISTA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295280"/>
            <a:ext cx="868680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uenta con más in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9966"/>
                </a:solidFill>
                <a:latin typeface="Arial"/>
              </a:rPr>
              <a:t>Puede contemplar más posibilida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Se conoce mejor a sí mism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9966"/>
                </a:solidFill>
                <a:latin typeface="Arial"/>
              </a:rPr>
              <a:t>Se siente más valor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Ha mejorado la percepción de sí mism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9966"/>
                </a:solidFill>
                <a:latin typeface="Arial"/>
              </a:rPr>
              <a:t>Está más dispuesto a actuar según lo decidi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38088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9966"/>
                </a:solidFill>
                <a:latin typeface="Arial"/>
              </a:rPr>
              <a:t>DESPUÉS DE LA ENTREVISTA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295280"/>
            <a:ext cx="821844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Más involucrado en su propia construcción personal, académica, profesion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9966"/>
                </a:solidFill>
                <a:latin typeface="Arial"/>
              </a:rPr>
              <a:t>Más capaz de generar sus propias soluciones, más autónom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5445000"/>
            <a:ext cx="79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tu llevas el coche; eres capaz de conducir. ¿Sabes a donde vas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2209680" y="609480"/>
            <a:ext cx="4724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"Investigar" en tutoría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27432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9900"/>
                </a:solidFill>
                <a:latin typeface="Arial Narrow"/>
              </a:rPr>
              <a:t>ALUM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49528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9900"/>
                </a:solidFill>
                <a:latin typeface="Arial Narrow"/>
              </a:rPr>
              <a:t>TU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09680" y="3809880"/>
            <a:ext cx="6096240" cy="838440"/>
          </a:xfrm>
          <a:custGeom>
            <a:avLst/>
            <a:gdLst>
              <a:gd name="textAreaLeft" fmla="*/ 952560 w 6096240"/>
              <a:gd name="textAreaRight" fmla="*/ 5840640 w 6096240"/>
              <a:gd name="textAreaTop" fmla="*/ 319320 h 838440"/>
              <a:gd name="textAreaBottom" fmla="*/ 5191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8223"/>
                </a:moveTo>
                <a:lnTo>
                  <a:pt x="17801" y="8223"/>
                </a:lnTo>
                <a:lnTo>
                  <a:pt x="17801" y="0"/>
                </a:lnTo>
                <a:lnTo>
                  <a:pt x="21600" y="10800"/>
                </a:lnTo>
                <a:lnTo>
                  <a:pt x="17801" y="21600"/>
                </a:lnTo>
                <a:lnTo>
                  <a:pt x="17801" y="13377"/>
                </a:lnTo>
                <a:lnTo>
                  <a:pt x="3375" y="13377"/>
                </a:lnTo>
                <a:close/>
              </a:path>
              <a:path w="21600" h="21600">
                <a:moveTo>
                  <a:pt x="0" y="8223"/>
                </a:moveTo>
                <a:lnTo>
                  <a:pt x="675" y="8223"/>
                </a:lnTo>
                <a:lnTo>
                  <a:pt x="675" y="13377"/>
                </a:lnTo>
                <a:lnTo>
                  <a:pt x="0" y="13377"/>
                </a:lnTo>
                <a:close/>
              </a:path>
              <a:path w="21600" h="21600">
                <a:moveTo>
                  <a:pt x="1350" y="8223"/>
                </a:moveTo>
                <a:lnTo>
                  <a:pt x="2700" y="8223"/>
                </a:lnTo>
                <a:lnTo>
                  <a:pt x="2700" y="13377"/>
                </a:lnTo>
                <a:lnTo>
                  <a:pt x="1350" y="13377"/>
                </a:lnTo>
                <a:close/>
              </a:path>
            </a:pathLst>
          </a:custGeom>
          <a:gradFill rotWithShape="0">
            <a:gsLst>
              <a:gs pos="0">
                <a:srgbClr val="339933"/>
              </a:gs>
              <a:gs pos="50000">
                <a:srgbClr val="7fbe7f"/>
              </a:gs>
              <a:gs pos="100000">
                <a:srgbClr val="33993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1447920"/>
            <a:ext cx="3429000" cy="1295280"/>
          </a:xfrm>
          <a:prstGeom prst="wedgeRectCallout">
            <a:avLst>
              <a:gd name="adj1" fmla="val -66898"/>
              <a:gd name="adj2" fmla="val 54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1600200"/>
            <a:ext cx="38862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9900"/>
                </a:solidFill>
                <a:latin typeface="Arial"/>
              </a:rPr>
              <a:t>Tema, problema </a:t>
            </a:r>
            <a:r>
              <a:rPr b="0" lang="es-ES_tradnl" sz="2000" spc="-1" strike="noStrike">
                <a:solidFill>
                  <a:srgbClr val="669900"/>
                </a:solidFill>
                <a:latin typeface="Arial"/>
              </a:rPr>
              <a:t>(autoconocimiento, salidas profesiona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350532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327672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9900"/>
                </a:solidFill>
                <a:latin typeface="Simpson"/>
              </a:rPr>
              <a:t>Construcción propio fut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57400" y="4495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9900"/>
                </a:solidFill>
                <a:latin typeface="Simpson"/>
              </a:rPr>
              <a:t>Apoyo del tu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40464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9966"/>
                </a:solidFill>
                <a:latin typeface="Arial"/>
              </a:rPr>
              <a:t>ENTREVISTA GRUPAL: PRIMER ENCUENT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916280"/>
            <a:ext cx="896472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vocatoria en tablón o person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cc33"/>
                </a:solidFill>
                <a:latin typeface="Arial"/>
              </a:rPr>
              <a:t>Cuidar el espacio: acogedor, orden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Arial"/>
              </a:rPr>
              <a:t>Facilitar conocimiento mutuo: presentaciones, cruce de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cc66"/>
                </a:solidFill>
                <a:latin typeface="Arial"/>
              </a:rPr>
              <a:t>Rellenar cuestionario de da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Arial"/>
              </a:rPr>
              <a:t>Los fines y los temas de la tutoría (carpeta tutor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38088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9966"/>
                </a:solidFill>
                <a:latin typeface="Arial"/>
              </a:rPr>
              <a:t>ENTREVISTA GRUPAL: TEMAS COMU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916280"/>
            <a:ext cx="89647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lan de estudios: asignaturas, itinerari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9900"/>
                </a:solidFill>
                <a:latin typeface="Arial"/>
              </a:rPr>
              <a:t>Movilidad, práct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ganización del tiempo, método de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9900"/>
                </a:solidFill>
                <a:latin typeface="Arial"/>
              </a:rPr>
              <a:t>Dificultades surgidas en el desarrollo del cur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Arial"/>
              </a:rPr>
              <a:t>Formación complementa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9900"/>
                </a:solidFill>
                <a:latin typeface="Arial"/>
              </a:rPr>
              <a:t>Inserción lab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3808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9966"/>
                </a:solidFill>
                <a:latin typeface="Arial"/>
              </a:rPr>
              <a:t>CONVOCAT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1197000"/>
            <a:ext cx="8064360" cy="53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A DE TUTORÍAS DE APO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OCATORIA DE REUN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ÍA:                        HORA:                  LUG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MAS A TRAT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cio de curso y noveda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das sobre plan de estudios y normativa. Sentido y valor de las asignatur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ificación de la tutorí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a del cuatrimestre: método de estudio, evaluación, organización del tiempo, dificultades surgi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ros temas a propuesta del gru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9966"/>
                </a:solidFill>
                <a:latin typeface="Arial"/>
              </a:rPr>
              <a:t>FASES PARA EL DIÁLOGO INDIVI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1125360"/>
            <a:ext cx="896472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NICIAL: clima, seguridad, confianza, inform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8080"/>
                </a:solidFill>
                <a:latin typeface="Arial"/>
              </a:rPr>
              <a:t>NÚCLEO: concreciones, exposición del alumno, escucha activ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33"/>
                </a:solidFill>
                <a:latin typeface="Arial"/>
              </a:rPr>
              <a:t>SOLUCIONES, LÍNEAS DE ACCIÓN: propuestas y contraste; ventajas, inconv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8080"/>
                </a:solidFill>
                <a:latin typeface="Arial"/>
              </a:rPr>
              <a:t>CONCLUSIONES: síntesis, la propuesta, nueva entrevist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9640" y="1890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9966"/>
                </a:solidFill>
                <a:latin typeface="Arial"/>
              </a:rPr>
              <a:t>ACTITUDES Y RESPUESTAS DEL TUTOR  O  TUTO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1413000"/>
            <a:ext cx="896472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ranquilizar: “no te precipites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9966"/>
                </a:solidFill>
                <a:latin typeface="Arial"/>
              </a:rPr>
              <a:t>Comprender: atiende sentimientos, ayuda a expresarse, a ava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33"/>
                </a:solidFill>
                <a:latin typeface="Arial"/>
              </a:rPr>
              <a:t>Interpretar: las causas, parafrasear,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cc66"/>
                </a:solidFill>
                <a:latin typeface="Arial"/>
              </a:rPr>
              <a:t>Explorar: averiguar, profundizar un asp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c1c1c"/>
                </a:solidFill>
                <a:latin typeface="Arial"/>
              </a:rPr>
              <a:t>Valorar: juicios, camino a seguir (al fin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1890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9966"/>
                </a:solidFill>
                <a:latin typeface="Arial"/>
              </a:rPr>
              <a:t>PREGUNTAS ABIER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1413000"/>
            <a:ext cx="8964720" cy="53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¿Qué posibilidades ves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9966"/>
                </a:solidFill>
                <a:latin typeface="Arial"/>
              </a:rPr>
              <a:t>¿Cuál ves más interesante / más fácil / más costosa / más adecuada para ti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33"/>
                </a:solidFill>
                <a:latin typeface="Arial"/>
              </a:rPr>
              <a:t>¿Qué experiencia te puede ayudar aho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cc66"/>
                </a:solidFill>
                <a:latin typeface="Arial"/>
              </a:rPr>
              <a:t>¿Qué implicaciones, condiciones,… tendría esa ví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228600"/>
            <a:ext cx="1752480" cy="1068840"/>
          </a:xfrm>
          <a:prstGeom prst="rect">
            <a:avLst/>
          </a:prstGeom>
          <a:gradFill rotWithShape="0">
            <a:gsLst>
              <a:gs pos="0">
                <a:srgbClr val="e4fee4"/>
              </a:gs>
              <a:gs pos="50000">
                <a:srgbClr val="ccffcc"/>
              </a:gs>
              <a:gs pos="100000">
                <a:srgbClr val="e4fee4"/>
              </a:gs>
            </a:gsLst>
            <a:lin ang="135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3300"/>
                </a:solidFill>
                <a:latin typeface="Arial Narrow"/>
              </a:rPr>
              <a:t>Alumno</a:t>
            </a:r>
            <a:r>
              <a:rPr b="0" lang="es-ES_tradnl" sz="3200" spc="-1" strike="noStrike">
                <a:solidFill>
                  <a:srgbClr val="003300"/>
                </a:solidFill>
                <a:latin typeface="Arial Narrow"/>
              </a:rPr>
              <a:t> exp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1143000"/>
            <a:ext cx="3124080" cy="1556280"/>
          </a:xfrm>
          <a:prstGeom prst="rect">
            <a:avLst/>
          </a:prstGeom>
          <a:gradFill rotWithShape="0">
            <a:gsLst>
              <a:gs pos="0">
                <a:srgbClr val="fefee8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663300"/>
                </a:solidFill>
                <a:latin typeface="Arial Narrow"/>
              </a:rPr>
              <a:t>Tutor</a:t>
            </a:r>
            <a:r>
              <a:rPr b="0" lang="es-ES_tradnl" sz="3200" spc="-1" strike="noStrike">
                <a:solidFill>
                  <a:srgbClr val="663300"/>
                </a:solidFill>
                <a:latin typeface="Arial Narrow"/>
              </a:rPr>
              <a:t>: comprende, ayuda a interpretar, expl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1219320"/>
            <a:ext cx="2590560" cy="1068840"/>
          </a:xfrm>
          <a:prstGeom prst="rect">
            <a:avLst/>
          </a:prstGeom>
          <a:gradFill rotWithShape="0">
            <a:gsLst>
              <a:gs pos="0">
                <a:srgbClr val="e8fee8"/>
              </a:gs>
              <a:gs pos="50000">
                <a:srgbClr val="ccffcc"/>
              </a:gs>
              <a:gs pos="100000">
                <a:srgbClr val="e8fee8"/>
              </a:gs>
            </a:gsLst>
            <a:lin ang="81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3300"/>
                </a:solidFill>
                <a:latin typeface="Arial Narrow"/>
              </a:rPr>
              <a:t>Alumno</a:t>
            </a:r>
            <a:r>
              <a:rPr b="0" lang="es-ES_tradnl" sz="3200" spc="-1" strike="noStrike">
                <a:solidFill>
                  <a:srgbClr val="003300"/>
                </a:solidFill>
                <a:latin typeface="Arial Narrow"/>
              </a:rPr>
              <a:t> amplía comen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3048120"/>
            <a:ext cx="3276720" cy="20437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efefe"/>
              </a:gs>
            </a:gsLst>
            <a:lin ang="81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663300"/>
                </a:solidFill>
                <a:latin typeface="Arial Narrow"/>
              </a:rPr>
              <a:t>Tutor:</a:t>
            </a:r>
            <a:r>
              <a:rPr b="0" lang="es-ES_tradnl" sz="3200" spc="-1" strike="noStrike">
                <a:solidFill>
                  <a:srgbClr val="663300"/>
                </a:solidFill>
                <a:latin typeface="Arial Narrow"/>
              </a:rPr>
              <a:t> demanda qué acciones previas, alternativas, ventajas e incon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486400"/>
            <a:ext cx="2209680" cy="10688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66"/>
                </a:solidFill>
                <a:latin typeface="Arial Narrow"/>
              </a:rPr>
              <a:t>Acción, segu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5562720"/>
            <a:ext cx="2286000" cy="10688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135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66"/>
                </a:solidFill>
                <a:latin typeface="Arial Narrow"/>
              </a:rPr>
              <a:t>Valoraciones Consen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1904760" cy="106884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3f3c9"/>
              </a:gs>
              <a:gs pos="100000">
                <a:srgbClr val="cccc00"/>
              </a:gs>
            </a:gsLst>
            <a:lin ang="135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66"/>
                </a:solidFill>
                <a:latin typeface="Arial Narrow"/>
              </a:rPr>
              <a:t>Nuevo encuent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12952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9051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10080" y="182880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22860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5105520"/>
            <a:ext cx="0" cy="9144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171840" y="6019920"/>
            <a:ext cx="1219320" cy="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742840" y="6019920"/>
            <a:ext cx="1066680" cy="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00200" y="4495680"/>
            <a:ext cx="0" cy="99072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809880" y="20520"/>
            <a:ext cx="436248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e46"/>
                    </a:gs>
                    <a:gs pos="50000">
                      <a:srgbClr val="00cc99"/>
                    </a:gs>
                    <a:gs pos="100000">
                      <a:srgbClr val="005e46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ENTREVISTA</a:t>
            </a:r>
            <a:endParaRPr b="0" lang="en-US" sz="4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ipe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6666"/>
                </a:solidFill>
                <a:latin typeface="Simpson"/>
              </a:rPr>
              <a:t>ENTREVISTA     PARA . .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cc66"/>
              </a:buClr>
              <a:buFont typeface="Simps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66"/>
                </a:solidFill>
                <a:latin typeface="Simpson"/>
              </a:rPr>
              <a:t>RESOL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cc66"/>
                </a:solidFill>
                <a:latin typeface="Tahoma"/>
              </a:rPr>
              <a:t>Criterio de util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cc66"/>
                </a:solidFill>
                <a:latin typeface="Tahoma"/>
              </a:rPr>
              <a:t>Eficacia del tu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cc66"/>
                </a:solidFill>
                <a:latin typeface="Tahoma"/>
              </a:rPr>
              <a:t>El profesor “debe saber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3962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Simps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00"/>
                </a:solidFill>
                <a:latin typeface="Simpson"/>
              </a:rPr>
              <a:t>ESCUCH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00"/>
                </a:solidFill>
                <a:latin typeface="Tahoma"/>
              </a:rPr>
              <a:t>Ayudar a describir, interpret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00"/>
                </a:solidFill>
                <a:latin typeface="Tahoma"/>
              </a:rPr>
              <a:t>Peligros: clichés, valorar al princip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00"/>
                </a:solidFill>
                <a:latin typeface="Tahoma"/>
              </a:rPr>
              <a:t>Madurar ambos la solución o la vía de 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00"/>
                </a:solidFill>
                <a:latin typeface="Tahoma"/>
              </a:rPr>
              <a:t>Hacer pens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4T12:08:00Z</dcterms:created>
  <dc:creator>brincon</dc:creator>
  <dc:description/>
  <dc:language>en-US</dc:language>
  <cp:lastModifiedBy>usuario</cp:lastModifiedBy>
  <dcterms:modified xsi:type="dcterms:W3CDTF">2009-07-05T18:57:17Z</dcterms:modified>
  <cp:revision>25</cp:revision>
  <dc:subject/>
  <dc:title>“ENTREVISTA Y PERFIL DEL TUTOR”</dc:title>
</cp:coreProperties>
</file>