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BA3-602B-42BD-872D-7B5D1EB5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6C5-745B-432F-98B3-03D682D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096-1A95-4F8A-B987-5E3EF48B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075-B71C-47A9-928C-3F2B09D9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828-4436-4916-BC13-5D62FD44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D5D-2A26-4BC6-838A-6CF2DFB5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108-52A1-48B4-A4F4-5B513376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871-0DBA-41B4-A3DB-89496DC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454-57C5-416D-8E6B-C686C12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13F-702D-4828-BE4A-32765EB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A74-5704-4B1D-8239-E634C72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3A7-733A-41E0-8C7F-A832D28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F03-2307-4621-93D3-36B115635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clm.e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447920"/>
            <a:ext cx="806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6600"/>
                </a:solidFill>
                <a:latin typeface="Arial"/>
              </a:rPr>
              <a:t>TUTORÍA DE SEGUIMIENTO, TOMA DE DECISIONES,… </a:t>
            </a:r>
            <a:r>
              <a:rPr b="1" lang="es-MX" sz="5400" spc="-1" strike="noStrike">
                <a:solidFill>
                  <a:srgbClr val="ff6600"/>
                </a:solidFill>
                <a:latin typeface="Arial"/>
              </a:rPr>
              <a:t>“Tutoría Personalizad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63868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ito del Rincón Ig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Unidad de Innovación y Calidad Edu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Universidad de Castilla-La Man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304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ALLER DE TUTORÍA U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92280"/>
            <a:ext cx="7086600" cy="358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6816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9933"/>
                </a:solidFill>
                <a:latin typeface="Arial Black"/>
              </a:rPr>
              <a:t>ESPACIO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886200"/>
            <a:ext cx="3200400" cy="1905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3d3a8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ASIGNA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598400">
            <a:off x="1181520" y="3192120"/>
            <a:ext cx="314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Narrow"/>
              </a:rPr>
              <a:t>TUTORÍA SEGUIMIENTO,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 Narrow"/>
              </a:rPr>
              <a:t>PERSON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6002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3300"/>
                </a:solidFill>
                <a:latin typeface="Arial Black"/>
              </a:rPr>
              <a:t>TITUL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Logo UCLM"/>
          <p:cNvPicPr/>
          <p:nvPr/>
        </p:nvPicPr>
        <p:blipFill>
          <a:blip r:embed="rId2"/>
          <a:stretch/>
        </p:blipFill>
        <p:spPr>
          <a:xfrm>
            <a:off x="179280" y="26028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788000" y="105264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9933"/>
                </a:solidFill>
                <a:latin typeface="Arial Black"/>
              </a:rPr>
              <a:t>CONTEXTO COMUNI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3357720"/>
            <a:ext cx="6934320" cy="609480"/>
          </a:xfrm>
          <a:prstGeom prst="rightArrow">
            <a:avLst>
              <a:gd name="adj1" fmla="val 50000"/>
              <a:gd name="adj2" fmla="val 284436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590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Arial Black"/>
              </a:rPr>
              <a:t>Proceso f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191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3300"/>
                </a:solidFill>
                <a:latin typeface="Arial Black"/>
              </a:rPr>
              <a:t>Toma de deci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5334120"/>
            <a:ext cx="3047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9933"/>
                </a:solidFill>
                <a:latin typeface="Arial Black"/>
              </a:rPr>
              <a:t>ESPACIO DE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602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3300"/>
                </a:solidFill>
                <a:latin typeface="Arial Black"/>
              </a:rPr>
              <a:t>TUTOR /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Arial"/>
              </a:rPr>
              <a:t>NIVELES DE ESPECIALIZACIÓN</a:t>
            </a:r>
            <a:r>
              <a:rPr b="1" lang="es-MX" sz="2800" spc="-1" strike="noStrike">
                <a:solidFill>
                  <a:srgbClr val="808080"/>
                </a:solidFill>
                <a:latin typeface="Arial"/>
              </a:rPr>
              <a:t> ORIENTADORA EN LA EDUCACIÓN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905120"/>
            <a:ext cx="556236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Tutoría-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consultor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200400"/>
            <a:ext cx="7467840" cy="156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669900"/>
                </a:solidFill>
                <a:latin typeface="Arial Narrow"/>
              </a:rPr>
              <a:t>Tutoría  seguimiento</a:t>
            </a:r>
            <a:r>
              <a:rPr b="0" i="1" lang="es-MX" sz="4800" spc="-1" strike="noStrike">
                <a:solidFill>
                  <a:srgbClr val="669900"/>
                </a:solidFill>
                <a:latin typeface="Arial Narrow"/>
              </a:rPr>
              <a:t> </a:t>
            </a:r>
            <a:r>
              <a:rPr b="0" i="1" lang="es-MX" sz="4000" spc="-1" strike="noStrike">
                <a:solidFill>
                  <a:srgbClr val="669900"/>
                </a:solidFill>
                <a:latin typeface="Arial Narrow"/>
              </a:rPr>
              <a:t>(personalizada, toma de decisi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486400"/>
            <a:ext cx="670536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Tutoría</a:t>
            </a:r>
            <a:r>
              <a:rPr b="0" lang="es-MX" sz="4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4800" spc="-1" strike="noStrike">
                <a:solidFill>
                  <a:srgbClr val="6699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 Narrow"/>
              </a:rPr>
              <a:t>especializ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Logo UCLM"/>
          <p:cNvPicPr/>
          <p:nvPr/>
        </p:nvPicPr>
        <p:blipFill>
          <a:blip r:embed="rId4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APOYO</a:t>
            </a:r>
            <a:r>
              <a:rPr b="1" i="1" lang="es-ES_tradnl" sz="5400" spc="-1" strike="noStrike">
                <a:solidFill>
                  <a:srgbClr val="006600"/>
                </a:solidFill>
                <a:latin typeface="Arial Narrow"/>
              </a:rPr>
              <a:t>,</a:t>
            </a: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 AYUD</a:t>
            </a:r>
            <a:r>
              <a:rPr b="1" i="1" lang="es-ES_tradnl" sz="5400" spc="-1" strike="noStrike">
                <a:solidFill>
                  <a:srgbClr val="006600"/>
                </a:solidFill>
                <a:latin typeface="Arial Narrow"/>
              </a:rPr>
              <a:t>A,</a:t>
            </a:r>
            <a:r>
              <a:rPr b="1" i="1" lang="es-ES" sz="5400" spc="-1" strike="noStrike">
                <a:solidFill>
                  <a:srgbClr val="006600"/>
                </a:solidFill>
                <a:latin typeface="Arial Narrow"/>
              </a:rPr>
              <a:t> ATENCIÓN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124080"/>
            <a:ext cx="228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8200"/>
                </a:solidFill>
                <a:latin typeface="Arial Narrow"/>
              </a:rPr>
              <a:t>Exces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352680"/>
            <a:ext cx="3000240" cy="533520"/>
          </a:xfrm>
          <a:prstGeom prst="rightArrow">
            <a:avLst>
              <a:gd name="adj1" fmla="val 50000"/>
              <a:gd name="adj2" fmla="val 140587"/>
            </a:avLst>
          </a:prstGeom>
          <a:gradFill rotWithShape="0">
            <a:gsLst>
              <a:gs pos="0">
                <a:srgbClr val="ccff99"/>
              </a:gs>
              <a:gs pos="100000">
                <a:srgbClr val="796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181480"/>
            <a:ext cx="3152880" cy="533520"/>
          </a:xfrm>
          <a:prstGeom prst="rightArrow">
            <a:avLst>
              <a:gd name="adj1" fmla="val 50000"/>
              <a:gd name="adj2" fmla="val 147740"/>
            </a:avLst>
          </a:prstGeom>
          <a:gradFill rotWithShape="0">
            <a:gsLst>
              <a:gs pos="0">
                <a:srgbClr val="ccff99"/>
              </a:gs>
              <a:gs pos="100000">
                <a:srgbClr val="796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3124080"/>
            <a:ext cx="26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9f8355"/>
                </a:solidFill>
                <a:latin typeface="Arial Narrow"/>
              </a:rPr>
              <a:t>Abru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51055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9f8355"/>
                </a:solidFill>
                <a:latin typeface="Arial Narrow"/>
              </a:rPr>
              <a:t>Anonim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572000"/>
            <a:ext cx="2438280" cy="28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Es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 </a:t>
            </a:r>
            <a:r>
              <a:rPr b="0" i="1" lang="es-ES" sz="4800" spc="-1" strike="noStrike">
                <a:solidFill>
                  <a:srgbClr val="008200"/>
                </a:solidFill>
                <a:latin typeface="Arial Narrow"/>
              </a:rPr>
              <a:t>o n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9900"/>
                </a:solidFill>
                <a:latin typeface="Arial Black"/>
              </a:rPr>
              <a:t>MOMENTOS CLAVE</a:t>
            </a: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180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 Narrow"/>
              </a:rPr>
              <a:t>1</a:t>
            </a:r>
            <a:r>
              <a:rPr b="1" lang="es-ES_tradnl" sz="3600" spc="-1" strike="noStrike">
                <a:solidFill>
                  <a:srgbClr val="006600"/>
                </a:solidFill>
                <a:latin typeface="Arial Narrow"/>
              </a:rPr>
              <a:t>- Al inicio de la formación: acogida e integr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8080"/>
                </a:solidFill>
                <a:latin typeface="Arial Narrow"/>
              </a:rPr>
              <a:t>2- Durante el proceso formativo: seguimi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Arial Narrow"/>
              </a:rPr>
              <a:t>3- Al finalizar: culminación e inser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981080"/>
            <a:ext cx="1067040" cy="4267440"/>
          </a:xfrm>
          <a:prstGeom prst="downArrow">
            <a:avLst>
              <a:gd name="adj1" fmla="val 54167"/>
              <a:gd name="adj2" fmla="val 8998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549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TORÍA PERSONALIZADA, CURRICULAR, PARA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380880"/>
            <a:ext cx="5410080" cy="2390040"/>
          </a:xfrm>
          <a:prstGeom prst="rect">
            <a:avLst/>
          </a:prstGeom>
          <a:gradFill rotWithShape="0">
            <a:gsLst>
              <a:gs pos="0">
                <a:srgbClr val="f7fae1"/>
              </a:gs>
              <a:gs pos="100000">
                <a:srgbClr val="e9f5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8000"/>
                </a:solidFill>
                <a:latin typeface="Arial Black"/>
              </a:rPr>
              <a:t>INCORPO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Rece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Secundaria - Un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Plan de estudios, itine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 Narrow"/>
              </a:rPr>
              <a:t>Distribución del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2590920"/>
            <a:ext cx="5029200" cy="412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8000"/>
                </a:solidFill>
                <a:latin typeface="Arial Black"/>
              </a:rPr>
              <a:t>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Aprendizaje compe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Fracaso o exce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Apoyo en dificulta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Trabajo autónomo y equ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Mejora rdto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Feedback tit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124080"/>
            <a:ext cx="3691080" cy="3539880"/>
          </a:xfrm>
          <a:prstGeom prst="rect">
            <a:avLst/>
          </a:prstGeom>
          <a:gradFill rotWithShape="0">
            <a:gsLst>
              <a:gs pos="0">
                <a:srgbClr val="dad89a"/>
              </a:gs>
              <a:gs pos="100000">
                <a:srgbClr val="bbb98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00"/>
                </a:solidFill>
                <a:latin typeface="Arial Black"/>
              </a:rPr>
              <a:t>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Trabajo fin de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Formación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Autoconocimiento, D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00"/>
              </a:buClr>
              <a:buSzPct val="8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Arial Narrow"/>
              </a:rPr>
              <a:t>Or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514600"/>
            <a:ext cx="4572000" cy="3581280"/>
          </a:xfrm>
          <a:prstGeom prst="rect">
            <a:avLst/>
          </a:prstGeom>
          <a:solidFill>
            <a:srgbClr val="ffcc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 Narrow"/>
              </a:rPr>
              <a:t>ESPACIOS TU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362320"/>
            <a:ext cx="4419720" cy="34290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598400">
            <a:off x="826920" y="3500280"/>
            <a:ext cx="298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 Narrow"/>
              </a:rPr>
              <a:t>TUTORÍA  SEGUIMIENTO PERSON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600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88d70"/>
                </a:solidFill>
                <a:latin typeface="Arial Black"/>
              </a:rPr>
              <a:t>Programa de 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514600"/>
            <a:ext cx="1295280" cy="324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657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0000"/>
                </a:solidFill>
                <a:latin typeface="Arial"/>
              </a:rPr>
              <a:t>PROFESORADO ASIGNATURAS  ”CONSULTORÍ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048120"/>
            <a:ext cx="23623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Qué conocimientos previos son necesarios para iniciar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Cómo me organizo y qué estrategias son apropiadas para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336600"/>
                </a:solidFill>
                <a:latin typeface="Arial Narrow"/>
              </a:rPr>
              <a:t>EJEMPLO</a:t>
            </a:r>
            <a:r>
              <a:rPr b="1" i="1" lang="es-ES_tradnl" sz="3200" spc="-1" strike="noStrike">
                <a:solidFill>
                  <a:srgbClr val="336600"/>
                </a:solidFill>
                <a:latin typeface="Arial Narrow"/>
              </a:rPr>
              <a:t>: “ANTE EL FRACASO ACADÉMICO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64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Carga matrícula en función tiempo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iveles de partida en relación asign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Orientación del estudio y de los exá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elaciones de trabajo horizontal, apoy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Arial Narrow"/>
              </a:rPr>
              <a:t>Identificar dificultades: falta de ejemplos, no relaciono bien teoría y práctic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iempo semanal de dedicación a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99"/>
              </a:spcBef>
              <a:buClr>
                <a:srgbClr val="0099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 Narrow"/>
              </a:rPr>
              <a:t>Seguimiento de los primeros resultados acad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343400"/>
            <a:ext cx="4343400" cy="169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5b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Presentación Tuto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Planificación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1905120"/>
            <a:ext cx="5105160" cy="187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I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ndividu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Marcha cuatrimest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3300"/>
                </a:solidFill>
                <a:latin typeface="Arial Narrow"/>
              </a:rPr>
              <a:t>Mét trabajo,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257800"/>
            <a:ext cx="365760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7c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Balanc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s-ES_tradnl" sz="3600" spc="-1" strike="noStrike">
                <a:solidFill>
                  <a:srgbClr val="000000"/>
                </a:solidFill>
                <a:latin typeface="Arial Narrow"/>
              </a:rPr>
              <a:t>Próximo perío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878850"/>
                </a:solidFill>
                <a:latin typeface="Arial Black"/>
              </a:rPr>
              <a:t>TUTORÍA Y PERÍODO CUATRIMEST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3962520"/>
            <a:ext cx="838440" cy="1143000"/>
          </a:xfrm>
          <a:prstGeom prst="downArrow">
            <a:avLst>
              <a:gd name="adj1" fmla="val 50000"/>
              <a:gd name="adj2" fmla="val 34081"/>
            </a:avLst>
          </a:prstGeom>
          <a:gradFill rotWithShape="0">
            <a:gsLst>
              <a:gs pos="0">
                <a:srgbClr val="878850"/>
              </a:gs>
              <a:gs pos="100000">
                <a:srgbClr val="d1d2bd"/>
              </a:gs>
            </a:gsLst>
            <a:lin ang="8100000"/>
          </a:gradFill>
          <a:ln w="38160">
            <a:solidFill>
              <a:srgbClr val="878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666880"/>
            <a:ext cx="1524240" cy="13716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490" stAng="10800000" swAng="5400000"/>
                <a:lnTo>
                  <a:pt x="15750" y="2670"/>
                </a:lnTo>
                <a:lnTo>
                  <a:pt x="15750" y="0"/>
                </a:lnTo>
                <a:lnTo>
                  <a:pt x="21600" y="6079"/>
                </a:lnTo>
                <a:lnTo>
                  <a:pt x="15750" y="12158"/>
                </a:lnTo>
                <a:lnTo>
                  <a:pt x="15750" y="9488"/>
                </a:lnTo>
                <a:lnTo>
                  <a:pt x="12427" y="9488"/>
                </a:lnTo>
                <a:arcTo wR="5609" hR="2672" stAng="16200000" swAng="-5400000"/>
                <a:lnTo>
                  <a:pt x="6818" y="21600"/>
                </a:lnTo>
                <a:close/>
              </a:path>
            </a:pathLst>
          </a:custGeom>
          <a:gradFill rotWithShape="0">
            <a:gsLst>
              <a:gs pos="0">
                <a:srgbClr val="878850"/>
              </a:gs>
              <a:gs pos="50000">
                <a:srgbClr val="c6c7ad"/>
              </a:gs>
              <a:gs pos="100000">
                <a:srgbClr val="878850"/>
              </a:gs>
            </a:gsLst>
            <a:lin ang="13500000"/>
          </a:gradFill>
          <a:ln w="38160">
            <a:solidFill>
              <a:srgbClr val="878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0000"/>
                </a:solidFill>
                <a:latin typeface="Simpson"/>
              </a:rPr>
              <a:t>LA TUTORÍA PUEDE S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991000">
            <a:off x="-3491280" y="-27739440"/>
            <a:ext cx="266724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3716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 Narrow"/>
              </a:rPr>
              <a:t>Fracaso acadé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66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 Narrow"/>
              </a:rPr>
              <a:t>Problemas pers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798400">
            <a:off x="-456840" y="457164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9966"/>
                </a:solidFill>
                <a:latin typeface="Simpson"/>
              </a:rPr>
              <a:t>PREVEN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396252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 Narrow"/>
              </a:rPr>
              <a:t>Acogida al inicio de la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99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66"/>
                </a:solidFill>
                <a:latin typeface="Arial Narrow"/>
              </a:rPr>
              <a:t>Estrategias de estudio y org. del ti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888400">
            <a:off x="681120" y="1916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66"/>
                </a:solidFill>
                <a:latin typeface="Simpson"/>
              </a:rPr>
              <a:t>RE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Logo UCLM"/>
          <p:cNvPicPr/>
          <p:nvPr/>
        </p:nvPicPr>
        <p:blipFill>
          <a:blip r:embed="rId1"/>
          <a:stretch/>
        </p:blipFill>
        <p:spPr>
          <a:xfrm>
            <a:off x="179280" y="26028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6000" y="1916280"/>
            <a:ext cx="853272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La </a:t>
            </a: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matrícula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es un lío, muchos papeles, te tienes que aclarar tú sola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u padre ya no te firma las notas,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te liberas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No te </a:t>
            </a: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examinas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si no quie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Los profesores universitarios dicen que ya somos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adultos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; en unos meses pasamos de ser ‘normales’ a ser adult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No tienes que dar </a:t>
            </a: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explicaciones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si llegas tarde, o si no vas a cl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ogo UCLM"/>
          <p:cNvPicPr/>
          <p:nvPr/>
        </p:nvPicPr>
        <p:blipFill>
          <a:blip r:embed="rId1"/>
          <a:stretch/>
        </p:blipFill>
        <p:spPr>
          <a:xfrm>
            <a:off x="25092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692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DIFÍCIL  AUTONOM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LO QUE </a:t>
            </a:r>
            <a:r>
              <a:rPr b="1" lang="en-US" sz="4400" spc="-1" strike="noStrike" u="sng">
                <a:solidFill>
                  <a:srgbClr val="cc3300"/>
                </a:solidFill>
                <a:uFillTx/>
                <a:latin typeface="Arial Black"/>
              </a:rPr>
              <a:t>NO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 DEBE SER LA TUTO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 Narrow"/>
              </a:rPr>
              <a:t>Un espacio de crítica hacia otros profes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Narrow"/>
              </a:rPr>
              <a:t>Un lugar de mediación y defensa de los intereses del estudi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 Narrow"/>
              </a:rPr>
              <a:t>Un sustituto de secreta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 Narrow"/>
              </a:rPr>
              <a:t>Un sustituto de la capacidad de pensar y decidir del alum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 Narrow"/>
              </a:rPr>
              <a:t>Un consultorio psicológ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Logo UCLM"/>
          <p:cNvPicPr/>
          <p:nvPr/>
        </p:nvPicPr>
        <p:blipFill>
          <a:blip r:embed="rId1"/>
          <a:stretch/>
        </p:blipFill>
        <p:spPr>
          <a:xfrm>
            <a:off x="0" y="15228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71640" y="1557360"/>
            <a:ext cx="4496040" cy="3825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800000"/>
                </a:solidFill>
                <a:latin typeface="Arial Narrow"/>
              </a:rPr>
              <a:t>Necesidades Estudi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Acogida-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Aprendizaje de compe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 Narrow"/>
              </a:rPr>
              <a:t>Transición empl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592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6600"/>
                </a:solidFill>
                <a:latin typeface="Arial Black"/>
              </a:rPr>
              <a:t>EL MARCO GENERAL DE UN PLAN INTEGRADO DE 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854000">
            <a:off x="912240" y="1448280"/>
            <a:ext cx="1905120" cy="18003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odos los profesores (tutoría-consultor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754800">
            <a:off x="6660360" y="4076640"/>
            <a:ext cx="1828800" cy="9471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utor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652000">
            <a:off x="786240" y="3816360"/>
            <a:ext cx="2667240" cy="1312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Arial Narrow"/>
              </a:rPr>
              <a:t>Tutores de seguimiento </a:t>
            </a:r>
            <a:r>
              <a:rPr b="1" lang="es-MX" sz="2400" spc="-1" strike="noStrike">
                <a:solidFill>
                  <a:srgbClr val="663300"/>
                </a:solidFill>
                <a:latin typeface="Arial Narrow"/>
              </a:rPr>
              <a:t>(pequeño gru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413000"/>
            <a:ext cx="8055000" cy="4589280"/>
          </a:xfrm>
          <a:prstGeom prst="ellipse">
            <a:avLst/>
          </a:prstGeom>
          <a:noFill/>
          <a:ln cap="rnd" w="28440">
            <a:solidFill>
              <a:srgbClr val="99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5486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99"/>
                </a:solidFill>
                <a:latin typeface="Arial"/>
              </a:rPr>
              <a:t>Coordinador de tutoría / del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66400">
            <a:off x="6731640" y="1844280"/>
            <a:ext cx="2211120" cy="9471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Accione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2400">
            <a:off x="2123280" y="5805360"/>
            <a:ext cx="1747800" cy="7038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utores Pr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07000">
            <a:off x="4067640" y="5950080"/>
            <a:ext cx="1873080" cy="7038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 Narrow"/>
              </a:rPr>
              <a:t>Tutores Trabajo Fin de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Logo UCLM"/>
          <p:cNvPicPr/>
          <p:nvPr/>
        </p:nvPicPr>
        <p:blipFill>
          <a:blip r:embed="rId1"/>
          <a:stretch/>
        </p:blipFill>
        <p:spPr>
          <a:xfrm>
            <a:off x="179280" y="115920"/>
            <a:ext cx="486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1600"/>
            <a:ext cx="86421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Aquí fracasan los más débiles, hay </a:t>
            </a:r>
            <a:r>
              <a:rPr b="1" i="1" lang="es-ES_tradnl" sz="3200" spc="-1" strike="noStrike" u="sng">
                <a:solidFill>
                  <a:srgbClr val="003300"/>
                </a:solidFill>
                <a:uFillTx/>
                <a:latin typeface="Arial"/>
              </a:rPr>
              <a:t>selección natural</a:t>
            </a:r>
            <a:r>
              <a:rPr b="1" i="1" lang="es-ES_tradnl" sz="3200" spc="-1" strike="noStrike">
                <a:solidFill>
                  <a:srgbClr val="0033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Suspendes y </a:t>
            </a:r>
            <a:r>
              <a:rPr b="1" i="1" lang="es-ES_tradnl" sz="3200" spc="-1" strike="noStrike" u="sng">
                <a:solidFill>
                  <a:srgbClr val="a50021"/>
                </a:solidFill>
                <a:uFillTx/>
                <a:latin typeface="Arial"/>
              </a:rPr>
              <a:t>nadie te dice nada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Los profesores tienen un </a:t>
            </a:r>
            <a:r>
              <a:rPr b="1" i="1" lang="es-ES" sz="3200" spc="-1" strike="noStrike" u="sng">
                <a:solidFill>
                  <a:srgbClr val="003300"/>
                </a:solidFill>
                <a:uFillTx/>
                <a:latin typeface="Arial"/>
              </a:rPr>
              <a:t>despacho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 y puedes consultarles, pero tienes que llamar, están detrás de una mesa … la verdad, te imp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Cada profesor te manda </a:t>
            </a:r>
            <a:r>
              <a:rPr b="1" i="1" lang="es-ES_tradnl" sz="3200" spc="-1" strike="noStrike" u="sng">
                <a:solidFill>
                  <a:srgbClr val="a50021"/>
                </a:solidFill>
                <a:uFillTx/>
                <a:latin typeface="Arial"/>
              </a:rPr>
              <a:t>lo suyo</a:t>
            </a:r>
            <a:r>
              <a:rPr b="1" i="1" lang="es-ES_tradnl" sz="3200" spc="-1" strike="noStrike">
                <a:solidFill>
                  <a:srgbClr val="a50021"/>
                </a:solidFill>
                <a:latin typeface="Arial"/>
              </a:rPr>
              <a:t> y tú te organiza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Logo UCLM"/>
          <p:cNvPicPr/>
          <p:nvPr/>
        </p:nvPicPr>
        <p:blipFill>
          <a:blip r:embed="rId1"/>
          <a:stretch/>
        </p:blipFill>
        <p:spPr>
          <a:xfrm>
            <a:off x="324000" y="260280"/>
            <a:ext cx="485640" cy="44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2286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EXIGENCIA CRECI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4674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 Black"/>
              </a:rPr>
              <a:t>ESTRATEGIAS NUE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Los profesores llevan toda la vida dando </a:t>
            </a: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Arial Narrow"/>
              </a:rPr>
              <a:t>apuntes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, pero para nosotros, eso es nuevo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Y te dicen: éste trabajo lo haréis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Arial Narrow"/>
              </a:rPr>
              <a:t>en equipo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… pero no te dan pistas, ni te dicen cuántas páginas, ni cómo te organizas,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990033"/>
                </a:solidFill>
                <a:latin typeface="Arial Narrow"/>
              </a:rPr>
              <a:t>Te dan </a:t>
            </a:r>
            <a:r>
              <a:rPr b="1" i="1" lang="en-US" sz="2800" spc="-1" strike="noStrike" u="sng">
                <a:solidFill>
                  <a:srgbClr val="990033"/>
                </a:solidFill>
                <a:uFillTx/>
                <a:latin typeface="Arial Narrow"/>
              </a:rPr>
              <a:t>listados de libros</a:t>
            </a:r>
            <a:r>
              <a:rPr b="1" i="1" lang="en-US" sz="2800" spc="-1" strike="noStrike">
                <a:solidFill>
                  <a:srgbClr val="990033"/>
                </a:solidFill>
                <a:latin typeface="Arial Narrow"/>
              </a:rPr>
              <a:t>, no sabes dónde están y, cuando los encuentras, son muy amplios, o no se pueden sacar porque tienen punto rojo… al final, te olvida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Tal día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Arial Narrow"/>
              </a:rPr>
              <a:t>Seminario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, pero… ¿qué es eso de Semi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¿Cómo redactar un </a:t>
            </a: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Arial Narrow"/>
              </a:rPr>
              <a:t>informe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 de laboratorio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¿Hay alguna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Arial Narrow"/>
              </a:rPr>
              <a:t>forma oculta</a:t>
            </a: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 que te ayuda a resolver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Logo UCLM"/>
          <p:cNvPicPr/>
          <p:nvPr/>
        </p:nvPicPr>
        <p:blipFill>
          <a:blip r:embed="rId1"/>
          <a:stretch/>
        </p:blipFill>
        <p:spPr>
          <a:xfrm>
            <a:off x="468360" y="333360"/>
            <a:ext cx="485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9900"/>
                </a:solidFill>
                <a:latin typeface="Arial Narrow"/>
              </a:rPr>
              <a:t>EJEMPLIFICANDO... (1)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19320"/>
            <a:ext cx="89154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a50021"/>
                </a:solidFill>
                <a:latin typeface="Arial Narrow"/>
              </a:rPr>
              <a:t>¿Cómo se organizan los estud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Con qué medios cuen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6600"/>
                </a:solidFill>
                <a:latin typeface="Arial Narrow"/>
              </a:rPr>
              <a:t>¿Cómo aprovechar mejor el trabajo en gru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9900"/>
                </a:solidFill>
                <a:latin typeface="Arial Narrow"/>
              </a:rPr>
              <a:t>¿Cuáles son los momentos cr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Cuáles son las claves del éxito en el Grado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Qué menciones? ¿Qué prác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Arial Narrow"/>
              </a:rPr>
              <a:t>¿Cuáles son mis fortalezas? “¿Para qué sirv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6600"/>
              </a:buClr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6600"/>
                </a:solidFill>
                <a:latin typeface="Arial Narrow"/>
              </a:rPr>
              <a:t>¿Qué posibilidades laborales ab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Logo UC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204840"/>
            <a:ext cx="576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Arial Narrow"/>
              </a:rPr>
              <a:t>EJEMPLIFICANDO... (2)</a:t>
            </a:r>
            <a:r>
              <a:rPr b="1" lang="es-ES_tradnl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141560"/>
            <a:ext cx="82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00656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Qué tengo que hacer para opositar? ¿Interesa lo privado o lo públic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682720"/>
            <a:ext cx="883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Tengo poca memoria y por eso suspendo la asignatura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021200"/>
            <a:ext cx="830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00"/>
                </a:solidFill>
                <a:latin typeface="Arial Narrow"/>
              </a:rPr>
              <a:t> 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996600"/>
                </a:solidFill>
                <a:latin typeface="Arial Narrow"/>
              </a:rPr>
              <a:t>Qué puedo hacer en la administración?”</a:t>
            </a:r>
            <a:r>
              <a:rPr b="1" lang="es-ES_tradnl" sz="2400" spc="-1" strike="noStrike">
                <a:solidFill>
                  <a:srgbClr val="9966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822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3300"/>
                </a:solidFill>
                <a:latin typeface="Arial Narrow"/>
              </a:rPr>
              <a:t>¿Qué Master me será más útil al acabar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4012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s-ES_tradnl" sz="2400" spc="-1" strike="noStrike">
                <a:solidFill>
                  <a:srgbClr val="cc3300"/>
                </a:solidFill>
                <a:latin typeface="Arial Narrow"/>
              </a:rPr>
              <a:t>A un mes de los exámenes, ¿vale la pena que empiece a preparar la asignatura X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749920"/>
            <a:ext cx="842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996600"/>
                </a:solidFill>
                <a:latin typeface="Arial Narrow"/>
              </a:rPr>
              <a:t>“</a:t>
            </a:r>
            <a:r>
              <a:rPr b="1" i="1" lang="es-MX" sz="2400" spc="-1" strike="noStrike">
                <a:solidFill>
                  <a:srgbClr val="996600"/>
                </a:solidFill>
                <a:latin typeface="Arial Narrow"/>
              </a:rPr>
              <a:t>Elegí esta carrera con la idea de... pero ahora ve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264360"/>
            <a:ext cx="1523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340320"/>
            <a:ext cx="8534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cc3300"/>
                </a:solidFill>
                <a:latin typeface="Arial Narrow"/>
              </a:rPr>
              <a:t>Me ha salido un trabajo... estoy en 3º... ¿qué hag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96920"/>
            <a:ext cx="8382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cc3300"/>
                </a:solidFill>
                <a:latin typeface="Arial Narrow"/>
              </a:rPr>
              <a:t>Estudiar dos horas diarias es mucho o poc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6094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SEGUIMIENTO</a:t>
            </a: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996633"/>
                </a:solidFill>
                <a:latin typeface="Arial"/>
              </a:rPr>
              <a:t>ACADÉ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5943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Trayectoria cada estud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Orientación itinerarios, prác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Participación en la vida univers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Apoyo fracaso/ exce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Prevención aband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00"/>
                </a:solidFill>
                <a:latin typeface="Arial Narrow"/>
              </a:rPr>
              <a:t>Problemáticas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6600"/>
                </a:solidFill>
                <a:latin typeface="Arial Narrow"/>
              </a:rPr>
              <a:t>Dinámica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8006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cc3300"/>
                </a:solidFill>
                <a:latin typeface="Arial Narrow"/>
              </a:rPr>
              <a:t>Tutor de pequeño grupo </a:t>
            </a:r>
            <a:r>
              <a:rPr b="0" i="1" lang="es-MX" sz="2400" spc="-1" strike="noStrike">
                <a:solidFill>
                  <a:srgbClr val="cc3300"/>
                </a:solidFill>
                <a:latin typeface="Arial Narrow"/>
              </a:rPr>
              <a:t>(10-15 alum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886200"/>
            <a:ext cx="4105080" cy="2514600"/>
          </a:xfrm>
          <a:prstGeom prst="ellips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LA TUTORÍA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DEBE SUPONER UN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EFLEXIÓN SOBRE EL PROCESO DE FORMACIÓN UNIVERSITA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Llena mis expectati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”Entiendo” la carr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reveo coherencia entre lo laboral y lo académ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odría resumir las competencias adquirid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Mes siento integrado en el gru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He encontrado un buen equipo de trabaj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9144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98108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Introductoria (en la acogi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Transve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Contraste, “espejo”</a:t>
            </a: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Elección entre alterna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gra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2860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3300"/>
                </a:solidFill>
                <a:latin typeface="Arial"/>
              </a:rPr>
              <a:t>SEGUIMIENTO, </a:t>
            </a:r>
            <a:r>
              <a:rPr b="1" lang="es-MX" sz="3600" spc="-1" strike="noStrike">
                <a:solidFill>
                  <a:srgbClr val="cc3300"/>
                </a:solidFill>
                <a:latin typeface="Arial"/>
              </a:rPr>
              <a:t>TOMA DE DECISIONES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 “PERSONALIZAD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Logo UCLM"/>
          <p:cNvPicPr/>
          <p:nvPr/>
        </p:nvPicPr>
        <p:blipFill>
          <a:blip r:embed="rId1"/>
          <a:stretch/>
        </p:blipFill>
        <p:spPr>
          <a:xfrm>
            <a:off x="179280" y="189000"/>
            <a:ext cx="4860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9:08:53Z</dcterms:created>
  <dc:creator>usuario</dc:creator>
  <dc:description/>
  <dc:language>en-US</dc:language>
  <cp:lastModifiedBy>Benito.Rincon</cp:lastModifiedBy>
  <dcterms:modified xsi:type="dcterms:W3CDTF">2009-09-03T08:59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